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879-6F82-4368-AE20-BD657577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A0E-4B0A-44C4-AD30-B15B5A47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BA5-FEA9-439D-ACD3-E9E85549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158-9145-4E63-96D5-0E844B8C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84D5-3558-44AB-88E5-EDC76D36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D5A4-661E-40F3-9042-10A4C009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84C-D063-4FBD-B695-F460164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C69D-B2CC-4FE0-AD12-D9B4216C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F4BA-3AD6-4D48-9F67-870734C5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F30A-47A9-4E64-AB6F-96A3699C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07A7-B795-4122-978D-62576989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01B-F627-48C9-A9CC-A9D7FB86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5E02-A4DF-4C7A-8D77-90F954E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3EF9-C555-4882-8A9F-7D632B34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91CB-8E28-4C19-BE73-A6ECFBF7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90A0-E12A-4356-81FA-50E0E1F6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FE60-9289-48C9-AA05-D5E42642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6F6-6CF1-4671-9502-9A30854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10E-9C8F-47F0-9916-64B3F61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A02-D0F6-4849-BB2F-3391167B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A67-516E-473B-A6B5-7AB31EAB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696-E8AB-466F-B982-AA3E50F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DE9-E793-42C0-A6F9-B9CB18B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6F5-232F-4F7C-8D55-D056B90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C39-830B-4306-866D-4B01068E0D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1001-9CD5-41A7-A119-82675E3CB4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ur Goal for Today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flect on Reading, Discussion and Our Work From this Semes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Unit Ration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you cre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it is exemplary of good teaching and learning according to Wiggins &amp; McTighe and Wilhel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 of Six Traits of Understanding: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lanation, Application, Interpretation, Self-Knowled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slow’s “Four Stages of Learning”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onscious In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In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onscious 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visiting the Opiniona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e Think N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fter reading, discussing, experimenting, how has our thinking changed or been refined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he Experts Would S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flecting on reading experi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-connecting to Essential Question(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literature, great for talking about them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ur Goals for Today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t Topic #1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ssessment and Covering Curriculu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anking Activity—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ssessme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4:46:22Z</dcterms:created>
  <dc:creator>BSD</dc:creator>
  <dc:description/>
  <dc:language>en-US</dc:language>
  <cp:lastModifiedBy>BSD</cp:lastModifiedBy>
  <dcterms:modified xsi:type="dcterms:W3CDTF">2011-04-26T21:04:41Z</dcterms:modified>
  <cp:revision>3</cp:revision>
  <dc:subject/>
  <dc:title>Our Goal for Today:</dc:title>
</cp:coreProperties>
</file>